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gif" ContentType="image/gi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721BC-4546-43B2-8738-4372FE1D459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45741-2F63-4907-8C3E-77ABAB7BDABC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6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72B47-3F65-4EBF-9E4D-2B6B0591583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17489-19D1-47EB-881E-85DBDEEF7A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DA29B-C462-4F6C-ABAC-298B63FE2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29E75-2ED8-47CC-A981-4D7F719C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22FF3-06C3-4F1A-AB40-F88F120F39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2EA4A-7E82-41DB-A1CC-8A7E981C6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5F4FA-1018-4354-BB0F-E5FFD525C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E0158-5AAC-45E4-8098-D88F0F60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2DE32-39DA-4061-8617-E6AD9DE06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D5D1D-506C-4BE7-93EE-8A34EEC00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56C33-345D-405A-84A4-039AAA907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8F265-5D88-4D8C-BD50-72540A09B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305DA-9464-4D59-AB9E-493C3D034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FA2D6-BA58-49D0-B2AF-3BF0F3232C6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9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八章 细菌的致病性与感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组合 16"/>
          <p:cNvGrpSpPr/>
          <p:nvPr/>
        </p:nvGrpSpPr>
        <p:grpSpPr>
          <a:xfrm>
            <a:off x="6000840" y="2000160"/>
            <a:ext cx="3143160" cy="2085480"/>
            <a:chOff x="6000840" y="2000160"/>
            <a:chExt cx="3143160" cy="2085480"/>
          </a:xfrm>
        </p:grpSpPr>
        <p:pic>
          <p:nvPicPr>
            <p:cNvPr id="157" name="Group 4" descr=""/>
            <p:cNvPicPr/>
            <p:nvPr/>
          </p:nvPicPr>
          <p:blipFill>
            <a:blip r:embed="rId1"/>
            <a:stretch/>
          </p:blipFill>
          <p:spPr>
            <a:xfrm>
              <a:off x="6303240" y="2000160"/>
              <a:ext cx="2023920" cy="79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7"/>
            <p:cNvSpPr/>
            <p:nvPr/>
          </p:nvSpPr>
          <p:spPr>
            <a:xfrm>
              <a:off x="6000840" y="3077280"/>
              <a:ext cx="3143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隐性感染或恢复期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重要的传染源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9" name="组合 4"/>
          <p:cNvGrpSpPr/>
          <p:nvPr/>
        </p:nvGrpSpPr>
        <p:grpSpPr>
          <a:xfrm>
            <a:off x="357120" y="2071800"/>
            <a:ext cx="2521080" cy="2084040"/>
            <a:chOff x="357120" y="2071800"/>
            <a:chExt cx="2521080" cy="2084040"/>
          </a:xfrm>
        </p:grpSpPr>
        <p:pic>
          <p:nvPicPr>
            <p:cNvPr id="160" name="Group 9" descr=""/>
            <p:cNvPicPr/>
            <p:nvPr/>
          </p:nvPicPr>
          <p:blipFill>
            <a:blip r:embed="rId4"/>
            <a:stretch/>
          </p:blipFill>
          <p:spPr>
            <a:xfrm>
              <a:off x="524160" y="2071800"/>
              <a:ext cx="1902240" cy="79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 Box 12"/>
            <p:cNvSpPr/>
            <p:nvPr/>
          </p:nvSpPr>
          <p:spPr>
            <a:xfrm>
              <a:off x="357120" y="3147480"/>
              <a:ext cx="2521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多见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可获得免疫力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2" name="Rectangle 28"/>
          <p:cNvSpPr/>
          <p:nvPr/>
        </p:nvSpPr>
        <p:spPr>
          <a:xfrm>
            <a:off x="2963880" y="1197000"/>
            <a:ext cx="31208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5fb6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的类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3" name="组合 15"/>
          <p:cNvGrpSpPr/>
          <p:nvPr/>
        </p:nvGrpSpPr>
        <p:grpSpPr>
          <a:xfrm>
            <a:off x="2714760" y="2071800"/>
            <a:ext cx="3357360" cy="4608360"/>
            <a:chOff x="2714760" y="2071800"/>
            <a:chExt cx="3357360" cy="4608360"/>
          </a:xfrm>
        </p:grpSpPr>
        <p:sp>
          <p:nvSpPr>
            <p:cNvPr id="164" name="下箭头标注 3"/>
            <p:cNvSpPr/>
            <p:nvPr/>
          </p:nvSpPr>
          <p:spPr>
            <a:xfrm>
              <a:off x="3278160" y="2071800"/>
              <a:ext cx="2016000" cy="968400"/>
            </a:xfrm>
            <a:prstGeom prst="downArrowCallout">
              <a:avLst>
                <a:gd name="adj1" fmla="val 24984"/>
                <a:gd name="adj2" fmla="val 24991"/>
                <a:gd name="adj3" fmla="val 25000"/>
                <a:gd name="adj4" fmla="val 64977"/>
              </a:avLst>
            </a:prstGeom>
            <a:solidFill>
              <a:srgbClr val="f2f2f2"/>
            </a:solidFill>
            <a:ln w="1260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显性感染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Text Box 12"/>
            <p:cNvSpPr/>
            <p:nvPr/>
          </p:nvSpPr>
          <p:spPr>
            <a:xfrm>
              <a:off x="2714760" y="3111480"/>
              <a:ext cx="3357360" cy="356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SzPct val="102884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急性与慢性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SzPct val="102884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局部感染与全身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全身感染的类型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菌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毒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内毒素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败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脓毒血症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    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56800" y="5000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三节 细菌性感染的发生发展与结局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一节 致病菌与条件致病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85840" y="16426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本概念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致病菌（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pathogen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或病原菌（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pathogenic bacterium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入机体、生长繁殖导致宿主疾病的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42920" y="1285560"/>
            <a:ext cx="885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条件致病菌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正常情况下并不致病，只有在某些特定情况下才可引起宿主疾病的细菌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致病条件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寄居部位改变：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如</a:t>
            </a:r>
            <a:r>
              <a:rPr b="1" i="1" lang="en-US" sz="2800" spc="-1" strike="noStrike">
                <a:solidFill>
                  <a:srgbClr val="7030a0"/>
                </a:solidFill>
                <a:latin typeface="Arial"/>
                <a:ea typeface="楷体_GB2312"/>
              </a:rPr>
              <a:t>E.coli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从肠道进入泌尿道、血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宿主免疫功能低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群失调：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如长期使用抗生素，可致</a:t>
            </a:r>
            <a:r>
              <a:rPr b="1" lang="zh-CN" sz="28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菌群失调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一节 致病菌与条件致病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285840" y="2071800"/>
            <a:ext cx="8389800" cy="33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细菌对宿主感染致病的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毒力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表示致病性的强弱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测定指标：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半数致死量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LD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50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半数感染量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ID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50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物质基础：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侵袭力、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28"/>
          <p:cNvSpPr/>
          <p:nvPr/>
        </p:nvSpPr>
        <p:spPr>
          <a:xfrm>
            <a:off x="538200" y="1133640"/>
            <a:ext cx="2665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5fb6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1"/>
          <p:cNvSpPr/>
          <p:nvPr/>
        </p:nvSpPr>
        <p:spPr>
          <a:xfrm>
            <a:off x="0" y="83808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714760" y="1857240"/>
            <a:ext cx="148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袭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2786040" y="3500280"/>
            <a:ext cx="35719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素（内、外毒素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2357280" y="2071800"/>
            <a:ext cx="287640" cy="1785960"/>
          </a:xfrm>
          <a:custGeom>
            <a:avLst/>
            <a:gdLst>
              <a:gd name="textAreaLeft" fmla="*/ 183960 w 287640"/>
              <a:gd name="textAreaRight" fmla="*/ 288000 w 287640"/>
              <a:gd name="textAreaTop" fmla="*/ 27360 h 1785960"/>
              <a:gd name="textAreaBottom" fmla="*/ 1758600 h 1785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31"/>
                  <a:pt x="10800" y="1061"/>
                </a:cubicBezTo>
                <a:lnTo>
                  <a:pt x="10800" y="9755"/>
                </a:lnTo>
                <a:cubicBezTo>
                  <a:pt x="10800" y="10286"/>
                  <a:pt x="5400" y="10816"/>
                  <a:pt x="0" y="10816"/>
                </a:cubicBezTo>
                <a:cubicBezTo>
                  <a:pt x="5400" y="10816"/>
                  <a:pt x="10800" y="11347"/>
                  <a:pt x="10800" y="11877"/>
                </a:cubicBezTo>
                <a:lnTo>
                  <a:pt x="10800" y="20539"/>
                </a:lnTo>
                <a:cubicBezTo>
                  <a:pt x="10800" y="2107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351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18"/>
          <p:cNvSpPr/>
          <p:nvPr/>
        </p:nvSpPr>
        <p:spPr>
          <a:xfrm>
            <a:off x="1285920" y="2571840"/>
            <a:ext cx="1071360" cy="520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Rectangle 19"/>
          <p:cNvSpPr/>
          <p:nvPr/>
        </p:nvSpPr>
        <p:spPr>
          <a:xfrm>
            <a:off x="1285920" y="4000680"/>
            <a:ext cx="1993680" cy="520560"/>
          </a:xfrm>
          <a:prstGeom prst="rect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入数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20"/>
          <p:cNvSpPr/>
          <p:nvPr/>
        </p:nvSpPr>
        <p:spPr>
          <a:xfrm>
            <a:off x="1071720" y="4929120"/>
            <a:ext cx="7343640" cy="520560"/>
          </a:xfrm>
          <a:prstGeom prst="rect">
            <a:avLst/>
          </a:prstGeom>
          <a:noFill/>
          <a:ln w="1260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入部位：呼吸道、消化道、皮肤伤口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21"/>
          <p:cNvSpPr/>
          <p:nvPr/>
        </p:nvSpPr>
        <p:spPr>
          <a:xfrm>
            <a:off x="1071720" y="2786040"/>
            <a:ext cx="242640" cy="2571840"/>
          </a:xfrm>
          <a:custGeom>
            <a:avLst/>
            <a:gdLst>
              <a:gd name="textAreaLeft" fmla="*/ 155160 w 242640"/>
              <a:gd name="textAreaRight" fmla="*/ 243000 w 242640"/>
              <a:gd name="textAreaTop" fmla="*/ 51840 h 2571840"/>
              <a:gd name="textAreaBottom" fmla="*/ 2520000 h 2571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97"/>
                  <a:pt x="10800" y="1393"/>
                </a:cubicBezTo>
                <a:lnTo>
                  <a:pt x="10800" y="9407"/>
                </a:lnTo>
                <a:cubicBezTo>
                  <a:pt x="10800" y="10104"/>
                  <a:pt x="5400" y="10800"/>
                  <a:pt x="0" y="10800"/>
                </a:cubicBezTo>
                <a:cubicBezTo>
                  <a:pt x="5400" y="10800"/>
                  <a:pt x="10800" y="11497"/>
                  <a:pt x="10800" y="12193"/>
                </a:cubicBezTo>
                <a:lnTo>
                  <a:pt x="10800" y="20207"/>
                </a:lnTo>
                <a:cubicBezTo>
                  <a:pt x="10800" y="20904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22"/>
          <p:cNvSpPr/>
          <p:nvPr/>
        </p:nvSpPr>
        <p:spPr>
          <a:xfrm>
            <a:off x="285840" y="2857680"/>
            <a:ext cx="571320" cy="27741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AutoShape 11"/>
          <p:cNvSpPr/>
          <p:nvPr/>
        </p:nvSpPr>
        <p:spPr>
          <a:xfrm>
            <a:off x="4071960" y="1214280"/>
            <a:ext cx="287280" cy="1872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7360 h 1872000"/>
              <a:gd name="textAreaBottom" fmla="*/ 1844640 h 18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06"/>
                  <a:pt x="10800" y="1012"/>
                </a:cubicBezTo>
                <a:lnTo>
                  <a:pt x="10800" y="9804"/>
                </a:lnTo>
                <a:cubicBezTo>
                  <a:pt x="10800" y="10310"/>
                  <a:pt x="5400" y="10816"/>
                  <a:pt x="0" y="10816"/>
                </a:cubicBezTo>
                <a:cubicBezTo>
                  <a:pt x="5400" y="10816"/>
                  <a:pt x="10800" y="11322"/>
                  <a:pt x="10800" y="11828"/>
                </a:cubicBezTo>
                <a:lnTo>
                  <a:pt x="10800" y="20588"/>
                </a:lnTo>
                <a:cubicBezTo>
                  <a:pt x="10800" y="21094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35b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TextBox 17"/>
          <p:cNvSpPr/>
          <p:nvPr/>
        </p:nvSpPr>
        <p:spPr>
          <a:xfrm>
            <a:off x="4429080" y="1071720"/>
            <a:ext cx="42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黏附素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黏附与定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Box 18"/>
          <p:cNvSpPr/>
          <p:nvPr/>
        </p:nvSpPr>
        <p:spPr>
          <a:xfrm>
            <a:off x="4429080" y="17146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袭性酶类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繁殖、扩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Box 19"/>
          <p:cNvSpPr/>
          <p:nvPr/>
        </p:nvSpPr>
        <p:spPr>
          <a:xfrm>
            <a:off x="4429080" y="2500200"/>
            <a:ext cx="471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荚膜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抵抗机体的防御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999720"/>
            <a:ext cx="2514600" cy="1190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外毒素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exotox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214200" y="2500200"/>
            <a:ext cx="8786880" cy="43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征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化学性质为蛋白质，由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个亚单位组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性作用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择性强，引起特有病理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理化稳定性差：不耐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原性强 ：甲醛处理为类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类多：神经毒、细胞毒、肠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4786200" y="1143000"/>
            <a:ext cx="4357800" cy="1449360"/>
          </a:xfrm>
          <a:prstGeom prst="wedgeRoundRectCallout">
            <a:avLst>
              <a:gd name="adj1" fmla="val -101458"/>
              <a:gd name="adj2" fmla="val -51439"/>
              <a:gd name="adj3" fmla="val 16667"/>
            </a:avLst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合成代谢产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仿宋_GB2312"/>
                <a:ea typeface="仿宋_GB2312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菌和部分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仿宋_GB2312"/>
                <a:ea typeface="仿宋_GB2312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菌产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释放到菌体外，或溶解释放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1000080"/>
            <a:ext cx="4205160" cy="650880"/>
          </a:xfrm>
          <a:prstGeom prst="rect">
            <a:avLst/>
          </a:prstGeom>
          <a:solidFill>
            <a:srgbClr val="f8f8f8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内毒素 </a:t>
            </a:r>
            <a:r>
              <a:rPr b="1" lang="en-US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endotoxi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BD5B5-C8A0-4A7B-ABEE-35E1479DB201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071600" y="999720"/>
            <a:ext cx="43578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00000"/>
                </a:solidFill>
                <a:uFillTx/>
                <a:latin typeface="楷体_GB2312"/>
                <a:ea typeface="楷体_GB2312"/>
              </a:rPr>
              <a:t>脂多糖 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楷体_GB2312"/>
                <a:ea typeface="楷体_GB2312"/>
              </a:rPr>
              <a:t>LPS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  lipopolysacharide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菌体裂解释放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性质稳定，耐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毒性作用较弱，无选择性，无组织特异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抗原性弱，不能用甲醛处理为类毒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刺激机体产生抗内毒素抗体，但中和作用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人体对内毒素敏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4" name="Group 14"/>
          <p:cNvGrpSpPr/>
          <p:nvPr/>
        </p:nvGrpSpPr>
        <p:grpSpPr>
          <a:xfrm>
            <a:off x="214200" y="2286000"/>
            <a:ext cx="4570200" cy="4102560"/>
            <a:chOff x="214200" y="2286000"/>
            <a:chExt cx="4570200" cy="4102560"/>
          </a:xfrm>
        </p:grpSpPr>
        <p:pic>
          <p:nvPicPr>
            <p:cNvPr id="145" name="Picture 9" descr="Release of LPS (Endotoxin) from the Gram-Negative Cell WallRelease of LPS (Endotoxin) from the Gram-Negative Cell Wall"/>
            <p:cNvPicPr/>
            <p:nvPr/>
          </p:nvPicPr>
          <p:blipFill>
            <a:blip r:embed="rId1"/>
            <a:stretch/>
          </p:blipFill>
          <p:spPr>
            <a:xfrm>
              <a:off x="371520" y="2286000"/>
              <a:ext cx="3367440" cy="35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Rectangle 12"/>
            <p:cNvSpPr/>
            <p:nvPr/>
          </p:nvSpPr>
          <p:spPr>
            <a:xfrm>
              <a:off x="214200" y="5928840"/>
              <a:ext cx="457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G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菌崩解和内毒素释放过程演示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7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灯片编号占位符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99B83-63E9-4019-B347-458BB6327000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1856880"/>
            <a:ext cx="2928960" cy="34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热反应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白细胞反应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毒素血症与内毒素休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285840" y="11430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内毒素的生物学作用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4" descr="内毒素作用机理"/>
          <p:cNvPicPr/>
          <p:nvPr/>
        </p:nvPicPr>
        <p:blipFill>
          <a:blip r:embed="rId1"/>
          <a:stretch/>
        </p:blipFill>
        <p:spPr>
          <a:xfrm>
            <a:off x="3000240" y="1714680"/>
            <a:ext cx="5815080" cy="4844880"/>
          </a:xfrm>
          <a:prstGeom prst="rect">
            <a:avLst/>
          </a:prstGeom>
          <a:ln w="0">
            <a:noFill/>
          </a:ln>
        </p:spPr>
      </p:pic>
      <p:sp>
        <p:nvSpPr>
          <p:cNvPr id="152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2"/>
          <p:cNvSpPr/>
          <p:nvPr/>
        </p:nvSpPr>
        <p:spPr>
          <a:xfrm>
            <a:off x="500040" y="1714680"/>
            <a:ext cx="7929720" cy="58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外源性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染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人、带菌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畜、带菌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播途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黏膜感染（呼吸道、消化道、泌尿生殖道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肤感染（破损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整皮肤、节肢动物叮咬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途径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内源性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常菌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潜伏的病原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28"/>
          <p:cNvSpPr/>
          <p:nvPr/>
        </p:nvSpPr>
        <p:spPr>
          <a:xfrm>
            <a:off x="714240" y="1000080"/>
            <a:ext cx="6500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感染的来源及传播途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56800" y="5000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三节 细菌性感染的发生发展与结局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mingzhe</cp:lastModifiedBy>
  <cp:lastPrinted>1899-12-30T00:00:00Z</cp:lastPrinted>
  <dcterms:modified xsi:type="dcterms:W3CDTF">2015-08-26T05:39:18Z</dcterms:modified>
  <cp:revision>3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